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89A-8B4F-4D07-9469-F067EB86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2D9-5627-4DD1-9726-A7CA5E9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275-C01F-4BD7-BB72-BF69BEA0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F19-8E48-4A62-A087-FA9A4D76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8B33-0518-403C-9759-F2ACDDD6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67BA-83E2-4B8C-AB00-B35733C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1246-D2A9-426F-BB62-8EF2028C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A9C7-BAF1-4BF2-B9FE-24A3D1C5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9B9F-FD40-4793-8173-B454CBB2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639D-453B-4C28-B2FF-2A60958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D974-467E-4226-89FC-D29E79B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252-0097-4E51-82DF-19BB41E5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4F9-0F5B-4903-B02C-14A10BE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E1D4-07DC-4B0C-97F7-8F38C92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0707-75F8-4C63-AC38-E67460F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BA8B-CCA1-4C12-A715-EC12C3CB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B5B1-3936-4078-92C7-4164DC23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254-B686-47C7-B781-C8E46DC1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604-7858-4B9F-AB35-BDA8ECF7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7E3-0D8A-4302-888C-ED5826D2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B97-3899-4C3F-ACD6-CD378726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EFF-ECAC-43FC-A140-A70114B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728-8A7B-4FBF-8D9E-58145C83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75D-7F8F-4830-B85E-BFBFF6FC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CEF-C16C-405F-9583-CF466B7DA84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F86-7AD5-4958-8ED7-FCC3919F145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192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Gender in the Unio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DTU IND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3348000" y="2205000"/>
          <a:ext cx="556272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05000"/>
                    <a:ext cx="556272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62320" y="1752480"/>
            <a:ext cx="65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ONS HAVE SET UP COMMITTEES TO STRUGGLE FOR G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DER COMMITTEES OFTEN DO NOT HAVE REAL INFLUENCE IN U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IMES THESE ARE JUST SEPARATE STRUCTURES OF WOME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DON’T HAVE REAL INFLUENCE IN EXECUTIVE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OST STRUCTURES THEY ARE NOT AT THE CORE OF THE WORK OF U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ONISTS DO NOT SPEND ENOUGH TIME DEFINING THE STRUCTURE’S ROLE AIMS AND OBJ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304920" y="914400"/>
          <a:ext cx="15969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15969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COMMITTEES OF GENDER EQU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499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UNIONS OFTEN SEPERATE EDUCATION,CAMPAIGNS AND ORGANI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GENDER ISSUES ARE THOUGHT TO FALL UNDER EDUCATION(THROUGH AWARENESS RAISING WORKSHO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THE UNION’S OVERALL POLITICAL AND ORGANISATIONAL PROGRAMME – NOT ONLY GENDER STRUCTURES SHOULD CONTRIBUTE TOWARDS MAKING MEMBERS AWARE OF GENDER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GENDER STRUCTURES SHOULD BE SEEN AS PLACES TO STRATEG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Tahoma"/>
              </a:rPr>
              <a:t>THE LINK BETWEEN GENDER,EDUCATION AND CAMPAIG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TITUDES AND APPROACHES TO GEND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Y UNIONS MEMBERS ARE NOT COMMITTED TO MAKING UP GENDER ISS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SOME INSTANCES MALE COMRADES CONSCIOUSLY RESIST ATTEMPTS TO HAVE GENDER ISSUES BECOME PART OF THE BROADER CONCERNS OF THE UN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RRIERS TO WOMEN’S FULL PARTICIPATION IN THE UN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NERS OF WOMEN WORKERS DO NOT WANT THEM TO ATTEND UNION MEE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MEETINGS ARE CA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’S ATTITUDES IN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REOTYPES ABOUT GENDER 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ISED OP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XUAL HARA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FORMING GENDER REL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ILDING ACTIVISTS GENDER STRUCT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LITICAL SUPPORT AND RESOUR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GRESSIVE THEOR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EADING ROLE OF WO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NEED FOR SEPARATE FORUMS FOR WO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ECTION OF WOMEN AS SHOPSTEWARDS AND LEAD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AKING UP GENDER ISSUES IN COLLECTIVE BARGAIN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ING CREATIVE ORGANISING METHODS FOR WOMEN LEAD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7803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ims of the Discu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mote gender equality and empowerment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ok at how to equip women with leadership skills in order to enable them to participate effectively in decision making structures of the u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ighlight some challenges in trade union gender strugg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plore the deepening of a gender conscious cadre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ZA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SETTING THE CONTEX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WHAT IS GEND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GENDER REFERS TO THE DIFFERENT ROLES AND IDENTITIES THAT WE ARE GIVEN DEPENDING ON WHETHER WE ARE MALE OR FE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ex refers to the physical differences between men and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POWER RE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Gender is not only about roles and expectations but also about the relationship between men and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PATRIAC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Patriarchy refers to the system of male domination over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ubordination of women to male authority, in the family and the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Limited decision making p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Limitations on mo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Objectification of women as a form of prop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Violence, rape and the threat of viol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exual division of labour in which women are confined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child rearing and personal services for adult males in the househo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Specific types of wage work related to the household role (cleaning, domestic work) low in status and p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Tahoma"/>
              </a:rPr>
              <a:t>Origin of the family, private property &amp; the st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480" y="1981080"/>
            <a:ext cx="726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Early societies were matrilineal and matriarch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According to Engels group marriage was the first form of fami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Women’s subsistence labour was a form of livelihood and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Male domination began with the emergence of private property in agricultural societies (development of farming led to a surpl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 existing sexual division of labour became an oppressive one as it became linked to status and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659640" y="189000"/>
          <a:ext cx="248436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89000"/>
                    <a:ext cx="24843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MEN’S LABOUR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MEN’S SEXU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MEN’S MOBIL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PERTY AND ECONOMIC RE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Tahoma"/>
              </a:rPr>
              <a:t>HOW WOMEN ARE CONTROLLED IN A PATRIARCHAL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Reproductive Labou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7640" y="2276280"/>
            <a:ext cx="7131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Every day workers return to the workplace fit to work – rested, fed, clothed and nurt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Whose labour is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Hidden household labour (mostly women’s labour) means capitalists can pay lower wages and maximise prof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paid reproductive labour has a strong class and racial dim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0328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800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Household power re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980720"/>
            <a:ext cx="78519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 family is an instrument of control and oppression of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Lenin condemned ‘domestic slavery’ and ‘humiliating subjugation’ of women in the househ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Notwithstanding all the laws emancipating women, she continues to be a domestic slave, because petty housework crushes, strangles, stultifies and degrades her, chains her to the kitchen and the nursery…” (Lenin, 19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Unequal power relations in househol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Children internalise conservative gender roles in the family and learn to conform to capit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 family becomes a shock absorber of the oppressive society– domestic violence, child ab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Families become isolated and reduced to units of consum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64000" y="1868400"/>
            <a:ext cx="55800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WOMEN’S LEADERSHIP IN TRADE UN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N MOSTLY LEAD TRADE UN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Y UNIONS USE MECHANISMS LIKE RESERVED SEATS,QU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S IS THE SAME EVEN IN OUR UN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MEN HAVE TO ACCEPT THEIR POWER IF THEY ARE TO BECOME LEAD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250920" y="1268280"/>
          <a:ext cx="322416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32241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GENDER AND TRADE UN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0:03:45Z</dcterms:created>
  <dc:creator>Naledi</dc:creator>
  <dc:description/>
  <dc:language>en-US</dc:language>
  <cp:lastModifiedBy>Dtweedie</cp:lastModifiedBy>
  <cp:lastPrinted>2002-04-11T06:49:33Z</cp:lastPrinted>
  <dcterms:modified xsi:type="dcterms:W3CDTF">2015-11-01T14:11:30Z</dcterms:modified>
  <cp:revision>64</cp:revision>
  <dc:subject/>
  <dc:title>COSATU CEC Political Discussion on Gender</dc:title>
</cp:coreProperties>
</file>